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6EC-C632-425F-ADCD-E9E1F782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374-7C0F-4285-86F7-55F2DB94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DD2-C5CB-4755-9242-4BDBF5BF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290-835E-481E-BE2F-F9FBFAB4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2F5-2C12-4EEC-A468-4FA3EEA9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EFA-3A06-419F-95BE-F99801C4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DAC-A73F-4F5F-A545-13C0A2BB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23F-8FC4-40E2-939F-F4059F5E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F02-9DF2-4941-A31A-7116E122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1D0-097E-41A5-BE04-F42BE8E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B21-62A0-4040-B823-DBC6DB2A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F99-23D5-409F-BD71-27A9B158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04DD-EAF0-4963-9469-1BA4297E84B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642160" cy="508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1255680" y="907920"/>
            <a:ext cx="7643880" cy="13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1204920" y="3716280"/>
            <a:ext cx="769464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هم أكثر الناس فسوقاً وخروجاً عن الفضائ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4581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نسوا الإيمان بالله وذكره فعاقبهم الله بنسيانه إياهم من فضله وتوفي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989440"/>
            <a:ext cx="8642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17640"/>
            <a:ext cx="91519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2360" y="4869000"/>
            <a:ext cx="34671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576600" y="981000"/>
            <a:ext cx="53341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6277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43000" y="398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أمرون بالكفر والمعاص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44719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نهون عن الإيمان و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43000" y="50115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الإنفاق في 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5583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هم من لطف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ارجون من طريق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نافقين هم أكثر النا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سوقاً وخروجاً عن الفضائ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اء عضال يتغلل في النفس فيجعل المعروف منكراً والمنكر معروف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ين في كل ع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تشابه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أمر بالمنكر وإشاعة الفواحش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هي عن المعروف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عويق طرق الخير وال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مات المنافق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خل بالمال وعدم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9975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6293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نسوا الإيمان بالله وذكره فعاقبهم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نسيانه إياهم من فضله وتوفي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08000" y="63165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رجات الفسق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فر أكبر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بائر لا تصل إلى حد ال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82520" y="907920"/>
            <a:ext cx="879624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09520" y="2316240"/>
          <a:ext cx="8683560" cy="198108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ؤمن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نافق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لا 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ذكرون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نسوا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2T17:08:17Z</dcterms:modified>
  <cp:revision>1867</cp:revision>
  <dc:subject/>
  <dc:title>عرض تقديمي في PowerPoint</dc:title>
</cp:coreProperties>
</file>